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0E4E13-36F2-40AE-B9CB-949490ED6A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75E688-C4A3-41B5-9BCB-EEEDCFA51E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7DB31D-8AC2-47A6-9F10-A9BDD5ECCD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B1D6FE-A0F4-4EA1-862D-A6BCFDEF98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194287-599F-4D2C-A713-6ED33BC2B4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182F18-CC82-4516-9DD3-95F24E64E5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FB66FA-AC24-45B0-8DE2-379B947B81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2A302C-9FE4-4BD5-A061-E3B0728481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27C12E-C20F-4C94-BBC4-B403FF717D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2636A8-9E88-4AF6-9D48-15CBE8EFD5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FC1278-347D-4A2A-9BB2-55246A4C0D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D5A13B-3561-4159-9680-299D102C60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5523F6-2757-4E07-8A81-34A9771BE51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www.cartome.org/panopticon2.htm" TargetMode="External"/><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www.tech-faq.com/trojan-horse-virus.shtml" TargetMode="External"/><Relationship Id="rId2" Type="http://schemas.openxmlformats.org/officeDocument/2006/relationships/hyperlink" Target="http://www.tech-faq.com/trojan-horse-virus.shtml" TargetMode="External"/><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hyperlink" Target="http://en.wikipedia.org/wiki/Transponder" TargetMode="External"/><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CT 205</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rveillan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chel Foucault</a:t>
            </a:r>
            <a:br>
              <a:rPr sz="4000"/>
            </a:br>
            <a:r>
              <a:rPr b="0" lang="en-US" sz="4000" spc="-1" strike="noStrike">
                <a:solidFill>
                  <a:srgbClr val="000000"/>
                </a:solidFill>
                <a:latin typeface="Arial"/>
              </a:rPr>
              <a:t>Discipline and Punishment (1979)</a:t>
            </a:r>
            <a:endParaRPr b="0" lang="en-US" sz="40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 figure in surveillance studi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nowledge &amp; power always conjoin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ver innocent knowledge; always an expression of power relationship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Discipline and Punishment: the Birth of the Prison (1979)</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s shift from punishment to discipline, from public executions (spectacle) to rehabilitation demanding need for information about crime,  criminals &amp; circumstances of crime = more need for records in &amp; outside of prison &amp; new forms of recording</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entham’s Panopticon</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63" name="Rectangle 4"/>
          <p:cNvSpPr/>
          <p:nvPr/>
        </p:nvSpPr>
        <p:spPr>
          <a:xfrm>
            <a:off x="8757720" y="1730880"/>
            <a:ext cx="380520" cy="26604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9999"/>
                </a:solidFill>
                <a:uFillTx/>
                <a:latin typeface="Verdana"/>
                <a:hlinkClick r:id="rId1" action="ppaction://hlinksldjump"/>
              </a:rPr>
              <a:t>top</a:t>
            </a:r>
            <a:endParaRPr b="0" lang="en-US" sz="1000" spc="-1" strike="noStrike">
              <a:solidFill>
                <a:srgbClr val="000000"/>
              </a:solidFill>
              <a:latin typeface="Arial"/>
            </a:endParaRPr>
          </a:p>
        </p:txBody>
      </p:sp>
      <p:graphicFrame>
        <p:nvGraphicFramePr>
          <p:cNvPr id="64" name=""/>
          <p:cNvGraphicFramePr/>
          <p:nvPr/>
        </p:nvGraphicFramePr>
        <p:xfrm>
          <a:off x="0" y="1981080"/>
          <a:ext cx="9144000" cy="4145040"/>
        </p:xfrm>
        <a:graphic>
          <a:graphicData uri="http://schemas.openxmlformats.org/drawingml/2006/table">
            <a:tbl>
              <a:tblPr/>
              <a:tblGrid>
                <a:gridCol w="9144000"/>
              </a:tblGrid>
              <a:tr h="41475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400" spc="-1" strike="noStrike">
                          <a:solidFill>
                            <a:srgbClr val="000000"/>
                          </a:solidFill>
                          <a:latin typeface="Verdana"/>
                        </a:rPr>
                        <a:t> </a:t>
                      </a:r>
                      <a:r>
                        <a:rPr b="0" lang="en-US" sz="1800" spc="-1" strike="noStrike">
                          <a:solidFill>
                            <a:srgbClr val="000000"/>
                          </a:solidFill>
                          <a:latin typeface="Arial"/>
                        </a:rPr>
                        <a:t>top</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pic>
        <p:nvPicPr>
          <p:cNvPr id="65" name="Picture 6" descr="Benthamdesignpanopticon"/>
          <p:cNvPicPr/>
          <p:nvPr/>
        </p:nvPicPr>
        <p:blipFill>
          <a:blip r:embed="rId2"/>
          <a:stretch/>
        </p:blipFill>
        <p:spPr>
          <a:xfrm>
            <a:off x="3352680" y="2209680"/>
            <a:ext cx="2857680" cy="2934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ern Panopticon</a:t>
            </a: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llinois State Prison</a:t>
            </a:r>
            <a:endParaRPr b="0" lang="en-US" sz="3200" spc="-1" strike="noStrike">
              <a:solidFill>
                <a:srgbClr val="000000"/>
              </a:solidFill>
              <a:latin typeface="Arial"/>
            </a:endParaRPr>
          </a:p>
        </p:txBody>
      </p:sp>
      <p:pic>
        <p:nvPicPr>
          <p:cNvPr id="68" name="Picture 5" descr="Benthampanopticon9-22-02"/>
          <p:cNvPicPr/>
          <p:nvPr/>
        </p:nvPicPr>
        <p:blipFill>
          <a:blip r:embed="rId1"/>
          <a:stretch/>
        </p:blipFill>
        <p:spPr>
          <a:xfrm>
            <a:off x="2362320" y="2057400"/>
            <a:ext cx="4457520" cy="37720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 on Panopticon</a:t>
            </a: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60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does Bentham's panopticon work to control behavior? </a:t>
            </a:r>
            <a:endParaRPr b="0" lang="en-US" sz="2800" spc="-1" strike="noStrike">
              <a:solidFill>
                <a:srgbClr val="000000"/>
              </a:solidFill>
              <a:latin typeface="Arial"/>
            </a:endParaRPr>
          </a:p>
          <a:p>
            <a:pPr marL="609480" indent="-60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does the informational panopticon affect individual liberty? </a:t>
            </a:r>
            <a:endParaRPr b="0" lang="en-US" sz="2800" spc="-1" strike="noStrike">
              <a:solidFill>
                <a:srgbClr val="000000"/>
              </a:solidFill>
              <a:latin typeface="Arial"/>
            </a:endParaRPr>
          </a:p>
          <a:p>
            <a:pPr marL="609480" indent="-60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do big databases that track consumer behavior contribute to the loss of liberty and/or privacy? </a:t>
            </a:r>
            <a:endParaRPr b="0" lang="en-US" sz="2800" spc="-1" strike="noStrike">
              <a:solidFill>
                <a:srgbClr val="000000"/>
              </a:solidFill>
              <a:latin typeface="Arial"/>
            </a:endParaRPr>
          </a:p>
          <a:p>
            <a:pPr marL="609480" indent="-60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does a loss of privacy impact our freedom to act spontaneously? </a:t>
            </a:r>
            <a:endParaRPr b="0" lang="en-US" sz="2800" spc="-1" strike="noStrike">
              <a:solidFill>
                <a:srgbClr val="000000"/>
              </a:solidFill>
              <a:latin typeface="Arial"/>
            </a:endParaRPr>
          </a:p>
          <a:p>
            <a:pPr marL="609480" indent="-60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are privacy- reducing initiatives sold to the public?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nopticon #1</a:t>
            </a: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w prison regime = need for continuous surveillanc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w spatial and social organization of powe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ntham’s Panopticon = architectural design for prisons which allowed many to be watched by a few who could not be see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ve with knowledge that prisoners could be subject to continuous observ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nopticon #2</a:t>
            </a: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duces in prisoner a state of conscious and permanent visibility assuring automatic power</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stant observing of prisoner by inspector</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soner knows himself to be observed or can be observed at every/any momen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nopticon = epitome of social control; paradigm of modern disciplin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eremy Bentham</a:t>
            </a: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ntham was a lawyer and social activist with an agenda to improve the lives of the powerless in his culture.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eking to improve upon the abhorrent prison conditions that predominated in Britain at the time, Bentham designed the panopticon as the modern model for a rehabilitative prison.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general idea behind the design is that prisoners are distributed around a centrally located watch tower.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soners were able to view the tower and knew they were being watched (which theoretically should have induced behavioral changes) while the guards surveyed all of the prisoners easily from the tower.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secondary benefit for the prisoners was an opportunity to be in an isolated environment that provided time for contemplation of the behavior that brought them to prison.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oucault</a:t>
            </a: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ntham's </a:t>
            </a:r>
            <a:r>
              <a:rPr b="0" lang="en-US" sz="2400" spc="-1" strike="noStrike" u="sng">
                <a:solidFill>
                  <a:srgbClr val="009999"/>
                </a:solidFill>
                <a:uFillTx/>
                <a:latin typeface="Arial"/>
                <a:hlinkClick r:id="rId1"/>
              </a:rPr>
              <a:t>Panopticon</a:t>
            </a:r>
            <a:r>
              <a:rPr b="0" lang="en-US" sz="2400" spc="-1" strike="noStrike">
                <a:solidFill>
                  <a:srgbClr val="000000"/>
                </a:solidFill>
                <a:latin typeface="Arial"/>
              </a:rPr>
              <a:t>  at the periphery, a building; at the centre, a tow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wer is pierced with wide windows that open onto the inner side of the ring; the building is divided into cells, each of which extends the whole width of the building; they have two windows, one on the inside, the other, on the outside, allows the light to cross the cell from one end to the other.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at is needed, then, is to place a supervisor in a central tower and to enclose in each cell a condemned person</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y the effect of backlighting, one can observe from the tower, standing out precisely against the light, the small captive shadows in the cells of the periphery.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oucault</a:t>
            </a: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nce the major effect of the Panopticon: to induce in the inmate a state of conscious and permanent visibility that assures the automatic functioning of power.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verifiable: the inmate must never know whether he is being looked at t any one moment; but he must be sure that he may always be so.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order to make the presence or absence of the inspector unverifiable, so that the prisoners, in their cells, cannot even see a shadow, Bentham envisaged not only venetian blinds on the windows of the central observation hall, but, on the inside, partitions that intersected the hall at right angles and, in order to pass from one quarter to the other, not doors but zig zag openings; for the slightest noise, a gleam of light, a brightness in a half-opened door would betray the presence of the guardian.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anopticon is a machine for dissociating the see/being seen dyad: in the peripheral ring, one is totally seen, without ever seeing; in the central tower, one sees everything without ever being seen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oucault</a:t>
            </a:r>
            <a:endParaRPr b="0" lang="en-US" sz="44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actice of placing individuals under 'observation' is a natural extension of a justice imbued with disciplinary methods and examination procedures. Is it surprising that the cellular prison, with its regular chronologies, forced labour, its authorities of surveillance and registration, its experts in normality, who continue and multiply the functions of the judge, should have become the modern instrument of penality?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it surprising that prisons resemble factories, schools, barracks, hospitals, which all resemble prison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rveillance</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A changed landscap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much has new technology changed the world of surveillan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are the impact of these chang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are we head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s surveillance a technological issue or is it a question of the management &amp; control of information within and between group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nopticon as Metaphor</a:t>
            </a: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ve of new information and communications technologies are allowing the development of an ‘electronic panoptic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ople are monitored by unseen forces, often automated, more than ever  befo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rveillance</a:t>
            </a:r>
            <a:endParaRPr b="0" lang="en-US" sz="4400" spc="-1" strike="noStrike">
              <a:solidFill>
                <a:srgbClr val="000000"/>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urces of data:</a:t>
            </a:r>
            <a:endParaRPr b="0" lang="en-US" sz="3200" spc="-1" strike="noStrike">
              <a:solidFill>
                <a:srgbClr val="000000"/>
              </a:solidFill>
              <a:latin typeface="Arial"/>
            </a:endParaRPr>
          </a:p>
        </p:txBody>
      </p:sp>
      <p:pic>
        <p:nvPicPr>
          <p:cNvPr id="87" name="Picture 5" descr="who%27s_watching"/>
          <p:cNvPicPr/>
          <p:nvPr/>
        </p:nvPicPr>
        <p:blipFill>
          <a:blip r:embed="rId1"/>
          <a:stretch/>
        </p:blipFill>
        <p:spPr>
          <a:xfrm>
            <a:off x="2590920" y="2590920"/>
            <a:ext cx="3600360" cy="36478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rveillance </a:t>
            </a:r>
            <a:endParaRPr b="0" lang="en-US" sz="4400" spc="-1" strike="noStrike">
              <a:solidFill>
                <a:srgbClr val="000000"/>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urces of Data:</a:t>
            </a:r>
            <a:endParaRPr b="0" lang="en-US" sz="3200" spc="-1" strike="noStrike">
              <a:solidFill>
                <a:srgbClr val="000000"/>
              </a:solidFill>
              <a:latin typeface="Arial"/>
            </a:endParaRPr>
          </a:p>
        </p:txBody>
      </p:sp>
      <p:pic>
        <p:nvPicPr>
          <p:cNvPr id="90" name="Picture 5" descr="what_they_watch"/>
          <p:cNvPicPr/>
          <p:nvPr/>
        </p:nvPicPr>
        <p:blipFill>
          <a:blip r:embed="rId1"/>
          <a:stretch/>
        </p:blipFill>
        <p:spPr>
          <a:xfrm>
            <a:off x="3048120" y="2590920"/>
            <a:ext cx="3095640" cy="35528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urces of Surveillance Data</a:t>
            </a: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nks &amp; data marketers collect data from transactions &amp; web surf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tailers collect data on every transac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vernment agencies collect data from tax returns, property tax records &amp; voting record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urces of Surveillance Data</a:t>
            </a:r>
            <a:endParaRPr b="0" lang="en-US" sz="4400" spc="-1" strike="noStrike">
              <a:solidFill>
                <a:srgbClr val="000000"/>
              </a:solidFill>
              <a:latin typeface="Arial"/>
            </a:endParaRPr>
          </a:p>
        </p:txBody>
      </p:sp>
      <p:sp>
        <p:nvSpPr>
          <p:cNvPr id="9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ployer records including keylogging software for all computers connected to a company network (on/off site; wired/wireles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iversity networks use keylogging softwar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et surfing records kept by your ISP</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ublic record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ublic private video cameras</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cation of surveillance: you</a:t>
            </a:r>
            <a:endParaRPr b="0" lang="en-US" sz="4400" spc="-1" strike="noStrike">
              <a:solidFill>
                <a:srgbClr val="000000"/>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ojan horse / spywa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re than 5% of executable files are spywa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e in 62 internet sites contain “drive by download” attack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ames, celebrity sites, and illegal sites most likely to contain spywa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University of Washington study, 2006</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pyware: The Trojan Horse</a:t>
            </a:r>
            <a:endParaRPr b="0" lang="en-US" sz="4400" spc="-1" strike="noStrike">
              <a:solidFill>
                <a:srgbClr val="000000"/>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ware of ancient Greeks bearing gifts  during siege of Tro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Something that appears good, but conceals something harmful.</a:t>
            </a:r>
            <a:endParaRPr b="0" lang="en-US" sz="3200" spc="-1" strike="noStrike">
              <a:solidFill>
                <a:srgbClr val="000000"/>
              </a:solidFill>
              <a:latin typeface="Arial"/>
            </a:endParaRPr>
          </a:p>
        </p:txBody>
      </p:sp>
      <p:sp>
        <p:nvSpPr>
          <p:cNvPr id="99" name="Rectangle 4"/>
          <p:cNvSpPr/>
          <p:nvPr/>
        </p:nvSpPr>
        <p:spPr>
          <a:xfrm>
            <a:off x="0" y="2406240"/>
            <a:ext cx="9144000" cy="2014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1"/>
              </a:rPr>
              <a:t>  </a:t>
            </a:r>
            <a:r>
              <a:rPr b="0" lang="en-US" sz="126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lt;&gt; </a:t>
            </a:r>
            <a:endParaRPr b="0" lang="en-US" sz="1800" spc="-1" strike="noStrike">
              <a:solidFill>
                <a:srgbClr val="000000"/>
              </a:solidFill>
              <a:latin typeface="Arial"/>
            </a:endParaRPr>
          </a:p>
        </p:txBody>
      </p:sp>
      <p:pic>
        <p:nvPicPr>
          <p:cNvPr id="100" name="Picture 5" descr="Greek soldiers building the original Trojan Horse">
            <a:hlinkClick r:id="rId2"/>
          </p:cNvPr>
          <p:cNvPicPr/>
          <p:nvPr/>
        </p:nvPicPr>
        <p:blipFill>
          <a:blip r:embed="rId3"/>
          <a:stretch/>
        </p:blipFill>
        <p:spPr>
          <a:xfrm>
            <a:off x="4724280" y="3581280"/>
            <a:ext cx="1905120" cy="20005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uter Trojan Horse</a:t>
            </a:r>
            <a:endParaRPr b="0" lang="en-US" sz="4400" spc="-1" strike="noStrike">
              <a:solidFill>
                <a:srgbClr val="000000"/>
              </a:solidFill>
              <a:latin typeface="Arial"/>
            </a:endParaRPr>
          </a:p>
        </p:txBody>
      </p:sp>
      <p:sp>
        <p:nvSpPr>
          <p:cNvPr id="10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a:t>
            </a:r>
            <a:r>
              <a:rPr b="0" i="1" lang="en-US" sz="2000" spc="-1" strike="noStrike">
                <a:solidFill>
                  <a:srgbClr val="000000"/>
                </a:solidFill>
                <a:latin typeface="Arial"/>
              </a:rPr>
              <a:t>computer</a:t>
            </a:r>
            <a:r>
              <a:rPr b="0" lang="en-US" sz="2000" spc="-1" strike="noStrike">
                <a:solidFill>
                  <a:srgbClr val="000000"/>
                </a:solidFill>
                <a:latin typeface="Arial"/>
              </a:rPr>
              <a:t> trojan horse = a program which appears to be something good, but actually conceals something bad.</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read by hiding it inside a distribution of normal software.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2002, the sendmail and OpenSSH packages were both used to hide trojan horses. This was done by an attacker who broke into the distribution sites for these software packages and replaced the original distributions with his own package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re common method of spreading a trojan horse is to send it via e-mail. The attacker will send the victim an e-mail with an attachment called something like "prettygirls.exe." When the victim opens the attachment to see the pretty girls, the trojan horse will infect his system.</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similar technique for spreading trojan horses is to send files to unsuspecting users over chat systems like IRC, AIM, ICQ, MSN, or Yahoo Messenge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et Service Providers</a:t>
            </a:r>
            <a:endParaRPr b="0" lang="en-US" sz="4400" spc="-1" strike="noStrike">
              <a:solidFill>
                <a:srgbClr val="000000"/>
              </a:solidFill>
              <a:latin typeface="Arial"/>
            </a:endParaRPr>
          </a:p>
        </p:txBody>
      </p:sp>
      <p:sp>
        <p:nvSpPr>
          <p:cNvPr id="10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lus blocked its union’s websit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ws about information storage are hazy (at bes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ldwide delegation of responsibility to ISP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yper Security: Disney Security</a:t>
            </a:r>
            <a:endParaRPr b="0" lang="en-US" sz="4400" spc="-1" strike="noStrike">
              <a:solidFill>
                <a:srgbClr val="000000"/>
              </a:solidFill>
              <a:latin typeface="Arial"/>
            </a:endParaRPr>
          </a:p>
        </p:txBody>
      </p:sp>
      <p:sp>
        <p:nvSpPr>
          <p:cNvPr id="10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sonal ID car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gerprint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g check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rd linked t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ssport linked t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gerprints link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park entran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s new….</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ize of databas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chnology that makes data collection and storage easier and cheap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s not just the government anymore that collects personal dat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usion about what is and isn’t possib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lippery Slopes…</a:t>
            </a:r>
            <a:endParaRPr b="0" lang="en-US" sz="4400" spc="-1" strike="noStrike">
              <a:solidFill>
                <a:srgbClr val="000000"/>
              </a:solidFill>
              <a:latin typeface="Arial"/>
            </a:endParaRPr>
          </a:p>
        </p:txBody>
      </p:sp>
      <p:sp>
        <p:nvSpPr>
          <p:cNvPr id="10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 high-tech prison opening Feb. 2006, inmates wear electronic wristbands that track their every movement and guards monitor cells using emotion recognition software. – BBC, 2006</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FID:</a:t>
            </a:r>
            <a:br>
              <a:rPr sz="4000"/>
            </a:br>
            <a:r>
              <a:rPr b="0" lang="en-US" sz="4000" spc="-1" strike="noStrike">
                <a:solidFill>
                  <a:srgbClr val="000000"/>
                </a:solidFill>
                <a:latin typeface="Arial"/>
              </a:rPr>
              <a:t>Radio Frequency Identification</a:t>
            </a:r>
            <a:endParaRPr b="0" lang="en-US" sz="4000" spc="-1" strike="noStrike">
              <a:solidFill>
                <a:srgbClr val="000000"/>
              </a:solidFill>
              <a:latin typeface="Arial"/>
            </a:endParaRPr>
          </a:p>
        </p:txBody>
      </p:sp>
      <p:sp>
        <p:nvSpPr>
          <p:cNvPr id="11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utomatic identification method, relying on storing and remotely retrieving data using devices called RFID tags or transponders </a:t>
            </a:r>
            <a:r>
              <a:rPr b="0" lang="en-US" sz="2800" spc="-1" strike="noStrike" u="sng">
                <a:solidFill>
                  <a:srgbClr val="009999"/>
                </a:solidFill>
                <a:uFillTx/>
                <a:latin typeface="Arial"/>
                <a:hlinkClick r:id="rId1"/>
              </a:rPr>
              <a:t>rs</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rchaser may not be aware of RFID or able or able to remove i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g can be read at a distance without consent – beyond sightline of reader</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used almost anywhere as an identification system: passports, food, pets, clothing with simple info or complex instructio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twork sniffers: Carnivore</a:t>
            </a: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finition:</a:t>
            </a:r>
            <a:r>
              <a:rPr b="0" lang="en-US" sz="2000" spc="-1" strike="noStrike">
                <a:solidFill>
                  <a:srgbClr val="000000"/>
                </a:solidFill>
                <a:latin typeface="Arial"/>
              </a:rPr>
              <a:t> Carnivore is a "network diagnostic tool" created by the U.S. Federal Bureau of Investigation (FBI) to assist in crime investigations. It is a secure computer platform running Windows/NT or Windows 2000 and application software developed by the FBI.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rnivore has drawn special attention, however, because of the large amount of Internet traffic it is capable of capturing.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FBI typically installs Carnivore in an ISP data center when investigating individuals suspected of federal crimes such as terrorism.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rnivore snoops essentially all data flowing through the network and saves the bits that fit a specific profile -- email sent or received from a particular user name, for example, or all data sent to Web sites from a particular IP address. Although the data of many other uninvolved people on the Net may flow through the Carnivore system, the FBI claims that the privacy of this data will not be compromised.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rive by Downloads</a:t>
            </a:r>
            <a:endParaRPr b="0" lang="en-US" sz="4400" spc="-1" strike="noStrike">
              <a:solidFill>
                <a:srgbClr val="000000"/>
              </a:solidFill>
              <a:latin typeface="Arial"/>
            </a:endParaRPr>
          </a:p>
        </p:txBody>
      </p:sp>
      <p:sp>
        <p:nvSpPr>
          <p:cNvPr id="11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rive-by downloading is a catch-all name for software downloaded on your computer without your knowledge or intervention.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rive-by downloads sneak onto computers without the user’s knowledge or permission.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of the most common drive-by download carriers are songs from free music share sites, free screensavers, etc. Many of these install spyware that monitors your surfing habits, and then displays pop-ups that match your habits.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 if you invest a good chunk of your Internet time cruising sport sites, the spyware detects this, and it could then splash sporting apparel ads on your monitor.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rive-by downloads can also attack your computer through e-mail spam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a:t>
            </a:r>
            <a:endParaRPr b="0" lang="en-US" sz="4400" spc="-1" strike="noStrike">
              <a:solidFill>
                <a:srgbClr val="000000"/>
              </a:solidFill>
              <a:latin typeface="Arial"/>
            </a:endParaRPr>
          </a:p>
        </p:txBody>
      </p:sp>
      <p:sp>
        <p:nvSpPr>
          <p:cNvPr id="11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do we defend and protect ourselves from the possibility of privacy infringements in a digitally driven societ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igital Technologies &amp; Surveillance</a:t>
            </a:r>
            <a:endParaRPr b="0" lang="en-US" sz="40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eater potential for surveillanc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reasing exposure of citizens to surveillanc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reased capacity to store data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rvesting of transactional information from credit cards, direct debit exchanges, health &amp; welfare records, electoral register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osed circuit television cameras in urban centers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us, rise of information society = rise of a surveillance society</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avid Lyon</a:t>
            </a:r>
            <a:br>
              <a:rPr sz="4000"/>
            </a:br>
            <a:r>
              <a:rPr b="0" lang="en-US" sz="4000" spc="-1" strike="noStrike">
                <a:solidFill>
                  <a:srgbClr val="000000"/>
                </a:solidFill>
                <a:latin typeface="Arial"/>
              </a:rPr>
              <a:t>Surveillance Society (2001)</a:t>
            </a:r>
            <a:endParaRPr b="0" lang="en-US" sz="40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gitization magnify surveillance function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 of earlier spheres of monitoring and control</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per surveillanc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uterization enhances and alters social processe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in government</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in bureaucracie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in the econom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obins &amp; Webster: Times of Technoculture (1999)</a:t>
            </a:r>
            <a:endParaRPr b="0" lang="en-US" sz="40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Information Revolution’: no more than an intensification of processes set in motion when Scientific Management became the watch word of corporate capitalis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iddens on Surveillance</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rveillance =control of information and superintendence of the activities of some groups by other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formation gathering &amp; storage key to state in its planning and control function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gularized gathering, storage and control of information = crucial for administrative efficiency &amp; maintaining power</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gh level of surveillance associated with totalitarian rule </a:t>
            </a:r>
            <a:r>
              <a:rPr b="0" lang="en-US" sz="1600" spc="-1" strike="noStrike">
                <a:solidFill>
                  <a:srgbClr val="000000"/>
                </a:solidFill>
                <a:latin typeface="Arial"/>
              </a:rPr>
              <a:t>(Anthony Giddens, The Nation State &amp; Violence, 1985</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rveillance and Control</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ylor (1947): scientific management = form of control of production process &amp; workers in modern corporate capitalism</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ss production &amp; mass consumption regulated through efficiency requiring management of info.</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oan at GM in 1920s: birth of modern marketing based on collection, aggregation &amp; dissemination of information</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loanism</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tempt to manage consumption through collection and processing of data on consumer behavior</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sonal data are used to sort populations into consuming type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loanism marked the beginning of post-Fordist era, when marketing began to dominate the process of production.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M’s method of marketing became a worldwide model by which business could create and nourish demand. Sloanism continues to be essential to the workings of the late-capitalist economy.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he Post-Fordist era society is no longer structured in terms of classes that are determined with respect to labour and production. Now society is structure in terms of consumer classes, i.e now its not where you work but where you shop that determines your place within the social structure.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03T02:28:04Z</dcterms:created>
  <dc:creator>Sheridan</dc:creator>
  <dc:description/>
  <dc:language>en-US</dc:language>
  <cp:lastModifiedBy>Sheridan</cp:lastModifiedBy>
  <dcterms:modified xsi:type="dcterms:W3CDTF">2009-01-27T22:11:12Z</dcterms:modified>
  <cp:revision>55</cp:revision>
  <dc:subject/>
  <dc:title>CCT 205</dc:title>
</cp:coreProperties>
</file>